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AA3-7AA8-4B2D-A77A-E1ECA6D17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7EB-8E13-488E-9D92-1C250E79E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0A4A-99F1-4748-BACF-B469B28F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7736-DB9A-47B8-80D4-61A3484C3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0BBD-0632-41DB-A915-D3C38DDE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587-F41A-48DF-9A8E-56B978DC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E965-BEE9-4ECA-855C-5F9901BA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5CB8-9AB7-4987-B6F3-CDE693530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DEA7-3AAC-4A32-B415-BAC0712D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ECB4-72CF-417C-9F50-F98D432C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810B-6D4A-4FC8-A567-181F9BB7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0649-2574-4064-A3AD-A4334EF9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AB8-BF51-4A98-8348-0D7DEE259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8758-A743-4937-A85E-813F0DBFB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2455-6EB0-49F8-92A1-E520514A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371F-074F-4F46-8D30-65792196A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621C-B441-4B84-8E3A-C8F3D277E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304E-8F0B-4E06-8994-B0CC8724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152C-1BD5-4DF6-A3EC-1461A146E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355-2F29-4811-B31B-190A3920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A9E9-3C5F-4E42-984D-08C4CF40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36F2-BD0F-4C7E-A4D7-EE8BBA59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C726-C922-45F2-A846-DFD567512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581-6BDF-4E2E-9000-746A31D09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492-F8E8-481D-8F79-A3D22543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DA6-CAF1-4C45-89DC-84E78B6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4EC-9966-4D01-850D-95F73B4A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255-8DF0-481B-AA73-FAC1CF66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717-50CB-4962-AF6D-7D3890CD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619-71DE-4F13-BC46-C3F9165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175-8262-4E0A-BF13-02A20F06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D33-E5F2-4923-B052-819C55D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D94-C90F-4F4E-B4EF-AC5F3180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908-7E7F-4857-B26B-D2F1E94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87D-F0AE-4646-8B02-59340F5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96E-8862-4888-84ED-9CF0B4F9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DB9C-CF5D-4FB7-A865-2EE66E53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3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0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5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0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5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0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oil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5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</cp:lastModifiedBy>
  <dcterms:modified xsi:type="dcterms:W3CDTF">2009-01-14T00:10:32Z</dcterms:modified>
  <cp:revision>6</cp:revision>
  <dc:subject/>
  <dc:title>Slide 1</dc:title>
</cp:coreProperties>
</file>